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4.png" ContentType="image/png"/>
  <Override PartName="/ppt/media/image2.png" ContentType="image/png"/>
  <Override PartName="/ppt/media/image25.png" ContentType="image/png"/>
  <Override PartName="/ppt/media/image27.wmf" ContentType="image/x-wmf"/>
  <Override PartName="/ppt/media/image23.wmf" ContentType="image/x-wmf"/>
  <Override PartName="/ppt/media/image20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5A1D-870F-416B-97C6-4BC8EE92101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8901-BE5E-4DC5-896B-29FAE4F39B9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615-94BF-4497-B662-4DD8C264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D44-FF9A-40BA-95AD-A5DF3F2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214F4-4F49-45C5-9704-094C5E2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51A83-E77F-43EE-AF5E-479795E2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0A25D-5A94-4979-87B1-50B57240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FB60C-9652-4986-B1D7-FD36529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51421-8E7F-426B-9711-EB40CEF4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915B6-71D3-4C18-AE02-033F28A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EB57A-F601-4D28-AE85-3AA01EF1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0E762-3C8B-4B3A-8AFC-24A03CD1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BCB85-A231-4889-97F7-E8AAFFDC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DEF8B-73D5-4FD5-9EAB-457180BC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AB6-779E-4900-B83D-0189BCDE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4EBE6-05D5-47F6-BB4E-85A62BF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94B79-7D79-4578-82CF-EED7EA98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06467-2E32-42F1-BEF7-E9D370C1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B386-6DFE-4B96-B8E0-C03A6EDD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33FDB-A147-4E87-87D9-18F64F83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A3374-7E5A-49D5-A7E3-601C4008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6F19C-AB52-4B4A-BF66-46DC147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B7822-9732-4895-A75A-56EF5A9B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4D485-1AE0-4A98-A321-E7C5FECB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AE906-2E26-475B-835C-992B20D9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35C-AFB1-4AD4-8C96-8827B807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81EB4-EE0C-4207-87B6-63A5F893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5A656-1531-4FCD-89C7-8A792FC8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196C8-A229-4A1C-AB9D-6B7BE87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E08A5-6F67-4441-B4FC-6E616CB1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A8897-88CE-451A-BB7A-6A6625ED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8CB7D-5334-4385-A275-D2F49126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92DEC-AA89-471C-BE70-34791BD9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B6A2C-D74F-4536-B3A6-C2A30DF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DE120-859C-447C-A630-43DA3EC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5D9F7-DDF9-45C6-82AE-4A1DC235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A1A5-A2E3-4E42-88EF-5D463E50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40311-8BE3-43EC-B93A-C0EE11F1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EBCBA-48F7-43CC-9A50-C243D4B6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30DC8-B335-466C-B736-C4D84B94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1DACA-BC16-4B41-8B8B-D25AECA0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3F579-DA9F-4B28-9E26-17D9D8AC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222CD-B16C-4963-A8C6-AD13EEFA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D6C39-9F42-4A81-B83B-0B6E7F79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7E01A-7B5B-4EB5-B50C-D3E52088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E5E52-FA31-439A-BF1E-7BBEE448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F310B-5D72-492A-8739-B02FD8FA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F8EA-C1F0-4A97-9F5D-07C48F63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17AB7-C08E-4F44-AD6E-3ACA49A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04C70-9DC7-499C-AA00-B4249534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B044B-3F81-454C-8FD8-C21B4E48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AE43F-206C-41B1-A3E6-6CE40C8F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8D011-5401-4AAB-A654-B645D790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0ECA2-F381-40E5-A4DD-7B258877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5BAC1-69ED-4575-8FDB-3CD806A8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35369-E373-43A0-9D80-01021C31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F1086-3960-4BA5-AE3E-A3680E4F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EA893-116C-45F5-95AE-9D7A8E3A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AF53-8B6B-467B-98FE-23B97E87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7EF4A-5FD5-464C-9C33-99104DF5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03B01-AD1F-43AF-83FD-5B61AC3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B80C1-C21C-4901-B2A0-00B4EE2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B9FDA-34AD-4EE4-82E2-896B16B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A6603-85E3-4784-8A30-C9AAB1DA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61F33-25C3-47A1-B00F-E9D992CA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757F8-7831-4B0E-A1FF-11E907A9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6807C-FC5E-433E-919D-70BB3659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2B38F-DDEA-4B62-9E71-75F20E6E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7A2CA-9710-41B7-841A-9B73A08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01F-E3F8-4BE4-A81E-3EEF5371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00B10-E996-40ED-8884-70E85319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F629D-5E49-492C-B820-8CF08039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20991-23BB-4155-9833-ED07C389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73403-AA8E-4176-B64F-47D7007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55B75-2B96-42D9-9EA8-5C9AB7B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03D5D-D3F1-4A4B-901B-20B27A0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2CE2A-A0AA-43AF-AB0D-A9D62384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59AC2-0371-467B-8C3B-3DF5DE0E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87E30-F850-440F-9577-A031CF9A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B3F18-B2B7-4356-9CE7-1102EC2C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C8FD-0D0F-4C30-993D-38DFEF34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787A5-B11C-4DCE-B65A-E6B95736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345AB-399B-4A8E-8BE9-506B6EF5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D90CC-1F9C-4A94-B1AE-300937DE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3C588-CFDF-497B-B11E-72C9C209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4539F-B2AF-497C-A0B5-F2BC6191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0AE61-DD21-4A05-BCBE-FBA5E5C0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E3ED9-346A-451C-8951-DDCF102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A3FD8-8BEC-47F3-AF38-76D05F0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69AAB-792D-4FA0-B2B5-CEA1CE1F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B2CCD-3D09-44DD-A1C4-B0B39320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8D11-2809-4CCB-8FA6-9E663B9D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19A34-0AB5-4E75-8FC5-3E374C6E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67E3F-9A20-4B4C-A093-514D0B6C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4613B-49E4-48B8-B9C9-D003CE91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D8093-9A27-4CEE-8973-43424321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53276-04C5-4EB4-A548-42E9412E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F835A-FBCD-493F-A0BA-D7494826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DBFC8-83B5-48C4-AF13-B9CEFC9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CCFAF-5163-46C5-A843-2937BFC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4EFCA-194C-44A0-88A4-4D293311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03B1D-10C2-4634-BCFC-88D0B54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1888-418E-4468-8DD6-9E98D3CC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935B5-3920-4A45-B6AB-3658B43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36667-44AB-43D4-855C-E5CCB293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58120-6C86-4EC9-9E25-5C56960B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83594-CA54-45E3-BE7B-063BDE67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FB1E4-0618-4EEF-9B67-7EBCECBB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B840C-4ACB-4D17-8B10-7B929543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8A517-9EF8-42B4-97FE-73835F03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E78DB-B9B4-47C2-AC12-C773CD16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E761C-BF02-404F-87F8-4A51B100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B2C7F-4971-48DB-A2C9-9C02E26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3A4-1E19-4907-958F-434C027D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FFFE-F7C4-46ED-BB45-054992D8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3D7DF-0382-48C0-8F82-5C039C2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F8FA9-72D6-4550-B07E-5D0B31A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F1E94-61AC-4679-A419-3ED94C16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4E682-B014-445C-AA5D-78EA494A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92D6F-555E-4D20-8175-E82C9C30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6BF5F-EAFC-4EA9-A9A5-30848358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8D1D6-C774-459A-85B0-8A36C89E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73502-870F-4D80-9BF4-37245485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0263E-C4DE-4038-AC69-0A24002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8EAA0-53BD-4D91-990C-E900FB95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AF2B-0167-4B87-8A19-DCF19D9D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7250E-7F83-4DE8-9C13-45F95EBF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29171-43B0-4F89-9E59-DAA42B44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A353F-71D9-4E14-8F2D-2101B461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80825-35F7-4DCC-A7D9-01779E3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1A45E-67EC-442A-ACF2-FFE633F6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31D2E-6802-4DD4-8AB8-1D6ECCC3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BB9FC-EC8C-4399-9638-1962E594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D9DF40-AAC7-4927-AFAC-3DF2236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B9C7F-178B-43B0-89F4-25F526A3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9CDE0-3B29-4AC2-BC95-2762D0D4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813-1438-4670-B50C-1EE4FA6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A439A-3019-4F8F-A64F-65966A2F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26D00-9A68-4693-8584-5354F60C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B27EB-625D-4659-B055-344B013E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80FF7B-277C-4DD8-B3A4-14D8BF0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C0E5E-0E21-4095-8F45-021D289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4FF19-D5FD-4E62-BC96-FC6C04DB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743D2-B653-4542-B084-4D14F6BE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7A028-8986-44E4-A313-E448E0A6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25F97-A88C-4DA8-9411-3CD46BEF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57A3-BC25-497B-92BD-6691C7CB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7176-16B0-440B-BB8E-F2C64FE0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4869-DF85-4437-B6D1-9ABB42F7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52715-152E-472E-AB5E-083D8FDE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9A1D-C143-4FF9-BD7E-3B2FCD3F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56E7-0F23-456F-8178-58291717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705B-D378-4E9C-B04F-222C7973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506-22E1-4C76-9F46-F6AF2F6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FEEA-99C0-4554-A585-D2B7FF7A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44DC-DB8D-4ABE-8B08-3A13C8C0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E449-E9C8-40C8-8FCB-BB6EB1A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DB44-BEFA-4BD9-8DEC-A50496CA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2783-3547-4BCF-BDF8-D20C8270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2ABC-6865-4BEC-9F14-7202910A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B6DB-C3F2-4C25-99C7-04E27381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7049-7A07-49B3-962C-1B30B29E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D65B-53A9-4075-A84F-FE7E99D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9978-AEC6-4D0D-A0DD-E291AD07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34F-686C-40E3-BFA0-3E2414E3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B42E-9933-44FA-93B4-0F715AC1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F36D-3323-4395-9BED-F7C84737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7CB4-84FF-4A7C-B4B1-C9AB229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F7E7-D34E-4376-8399-EFE8F76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FCB79-0066-4DD1-88DF-01C801C6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6D51-94A2-434C-889D-E8C9175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1767-BA9A-4128-839F-92C6F76D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C1ED-A4B1-4A53-BFCF-8E9D3FA2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DE26-F785-4524-808B-F3510979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78F4-805F-4D15-9FCD-FEB247BA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213-DB90-4FC3-8FE2-47579E75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16EA-9E1F-49C8-8473-2B590878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DE27B-8145-483E-964A-28C35D3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BF48-AD6B-48FF-A621-50998569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B791-7034-4848-B44E-162B180F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3F814-6169-436F-ACC4-BDBADF5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CD09-9203-40B3-A8BF-54A19CF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5ED60-AEC3-4FE9-A5A1-D95192E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1D675-BA87-4EED-BB46-D20A32E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7002D-A71B-4FCE-99BE-C54EB889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CFB3-F2CA-46E8-9C49-5993F04B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E62-578C-4D81-AE60-D4E1005E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5A9E-C366-4996-82CB-12FDB75F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D65E5-06AB-4970-80FE-0F3F2F4E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1BB3-6071-4149-AC9D-87DE564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1089-D133-4041-A0A8-26DE1AF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BC25B-B025-4E04-B8E1-A41334F3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2010-40D5-423B-9E7B-F62EF7B2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F3536-EC87-47F8-B26F-7230DEA9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4CF89-24CF-4CAE-AF47-F790EF8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79A4-09D1-48B8-9830-472DF09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11C8-FFBD-41EE-AAE8-8936D45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42A-4CF2-462B-B77C-EB1990F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C1EEF-2A14-49DC-BE42-D8B419D6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DBBA-F94C-4165-A94E-4A3A96CE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92405-59EC-4B2C-980D-244D1265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68760-4D65-4235-93CE-2FC92CB3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1D1E4-EDF9-4F9B-A0E5-53037EB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6EA13-57CD-490A-8F21-B55AED81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4776-02ED-4F0F-8DE4-9DE3B4C6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B209-DFC1-4E20-873E-7515B23A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6ABF-8DA1-4F93-B37E-2FE9D814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EFA8-E652-450C-A6EA-588FD39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9A6-45F0-4429-9B9F-C783B81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1AF88-5190-4686-B0D7-E9FA9E1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27F6C-8AFC-477A-AF66-D2FBD3C3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490A6-AB53-4BE8-AC7A-D41274E5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5CCA4-3579-4ACF-A011-EE0EF91F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4669D-892A-48EE-8F18-23473177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9E53-DC07-42F0-BB32-90D5741D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AA1A5-3A97-48A8-A1B9-FF9FB37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B64E5-B499-4D46-8C08-7D2F9D14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8FF25-0D23-4DFC-8091-8AF73569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925A-0915-433D-810E-A8EE4DED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82C-DFC3-41DD-B172-525DA93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9DA38-FF37-40B3-8F73-0BAA8AED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C4A11-2C57-46D2-8CE1-8397BEC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8369-8057-42F7-9F8B-3614CDA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7D996-B6A0-4936-A682-E2E2829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5F9A-269C-4AD8-B19D-4649CABD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652B-F743-4BF2-B96A-5DCF2765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0FAA5-565E-4608-B5CC-95BE669E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F5F1-18A8-4C78-8511-3D578859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392F8-9550-4805-8F91-3FBEF47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8A3A-C817-4AAD-8F68-FC6FCDC3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A6E6-BA15-4D54-8D22-9E093491E68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019F-4D83-4684-AF6D-3344696903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4116-E6B2-4C91-8CB5-E437A4B0243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B8C-27B7-4EDE-AB38-DE2B1F0F28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E8CC-B78D-4090-A724-2ECDB49DF81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AFA-5C48-4A76-A7C3-8B57A3836CD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114-B7C8-417A-86F7-58523DAF57E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E5A6-5F9A-4766-80DF-A65610F86B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409-25ED-4905-9AA5-06EE8D4D74F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55FB-57EA-4D49-B8E3-A914C592C3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448-0456-4974-ACE8-8D077DCC7D3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948D-0464-41D0-9EA9-2BCD9B1D68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BB98-574E-4E4E-94E5-9A80943F72F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3A09-3678-44DF-B41B-1A15AF3A82C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3328-1DBB-4159-9C6D-53406E55DF1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529-CFC8-4237-8AA5-D66BE781E0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D353-FAED-4FCA-A566-731FAFC23DD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4A7-8C97-4DAF-978E-C27B1523222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5969-BB1F-4110-9D65-451F03B29DC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8187-0E36-4317-B4EA-0A07D464B9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DB7A-89BF-4A86-8A15-FA51FA0BF7D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F29E-B530-4164-84E0-DCEDCBE64F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E27B-1183-4A18-AA0D-9E9B9FFF7DA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3199-1E77-4B61-87C3-6C708B4456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253-0A4D-4243-B68A-2DE7BE2B513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2B6E-B00F-4F22-9AE6-93636FCCAC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064B-E99D-4470-97E4-60E51305413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BE74-8E49-447A-998D-752EDE50AD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D0A8-1E39-4ECC-B73F-7ACEE0D0590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BD2-D2BC-4D15-8A58-174F378F15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D74A-9116-4A7A-8127-A1894B1CAA7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D6E3-00E7-4A42-8D82-CA2E346A17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C16F-4318-492A-806A-E3F1ED9079F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F30-75A5-4DAF-BDF6-4703BF9554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29D2-3F53-4E8A-B0BF-65850F68759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DF83-E7D9-40B1-8010-0963E73F72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1EA-1C69-437B-8B37-49577947FD5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DFCD-CA43-4E52-9056-F20D46153E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F685-19BD-4C48-89C5-72C34B123DE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B35-B8EE-41D2-91FF-E16569D8E3C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317-BC0D-4E42-90CC-95ECF2C0A55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250A-FF69-4308-A2A4-47EB68D27B5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F45-77A8-4C75-835E-C5DE9814B08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6" descr=""/>
          <p:cNvPicPr/>
          <p:nvPr/>
        </p:nvPicPr>
        <p:blipFill>
          <a:blip r:embed="rId2"/>
          <a:stretch/>
        </p:blipFill>
        <p:spPr>
          <a:xfrm>
            <a:off x="343080" y="2479680"/>
            <a:ext cx="84898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F79E-7759-4032-8097-BAD15562A35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4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5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5A1-076A-4D8C-A3C5-55A4C6B5455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8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9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804-338E-43A9-95B2-1875CED8E5F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76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80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2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3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6" name="4 Conector recto de flecha"/>
          <p:cNvCxnSpPr>
            <a:stCxn id="981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7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60A7-9FA5-49CF-8123-65E2DF3D2FD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0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1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8B1-1055-40FA-848F-82E35D4F521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5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86E-5982-4667-A826-1AE4BEE5576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as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95B9-61B0-42C6-B594-C000B3BAE68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5A91-916E-4822-8E85-4F31DE3BC7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6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0030-A65D-43C1-AEA8-6ECA786EAF6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7165-47D4-4DF1-8BC1-F288660E0D0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A5D-2550-4E8C-AEAD-4BEA1C719A8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Fanny Zirulnik</cp:lastModifiedBy>
  <cp:lastPrinted>2012-05-07T21:30:02Z</cp:lastPrinted>
  <dcterms:modified xsi:type="dcterms:W3CDTF">2017-05-08T21:56:04Z</dcterms:modified>
  <cp:revision>43</cp:revision>
  <dc:subject/>
  <dc:title>Presentación de PowerPoint</dc:title>
</cp:coreProperties>
</file>